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151-0BFC-400F-9C86-44B4ABAB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489-D4BA-4D0D-B110-590FE73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45A-4E9A-44E7-84C3-4A1D3821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DE2-A384-41CF-94FB-31A05B9A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EE5D-17F2-412A-B3C8-F4E13916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A068-3AA1-4684-AFB2-A8AA5C9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6615-1745-4E60-986C-FE70BAFA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A2F-C0D9-48D6-86BE-8A2C2B1C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3245-FB21-44F7-89BB-6F62450A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78F5-C51F-4F21-98A8-19E3877D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8D9-ABCF-415E-A2BE-B1AA4C5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645-5C22-497C-9705-115FD8B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ACB-123C-4427-AE26-3656CC9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C86-CC65-4C84-BF8C-F25C9F2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12B9-64C0-4528-87BF-1E4F761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3F0-067B-4696-921F-F2A58F9C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CAF-CB36-43B7-BB68-C7FAC6EA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8B4-6081-4ADD-8DE9-1CF133A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4E2-B063-4B62-8686-FC1EF00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3F7-7D64-4933-9454-3768EA99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7F2-386D-47AA-AB3F-6993FF29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B0C-2615-41D9-9926-38ECCBD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101-7886-4F97-ABE8-CAABE8C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398-C7F7-4069-B84F-90366A2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662-468D-415F-8029-B38BF7569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137-48C5-4980-9D17-22CC81651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ewoncities.com/london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ndon to Canterbury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Virtual Fieldtri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Final Destin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our final day of our trip, we will spend time at Canterbury Cathedral, the site of the Shrine of Thomas Beck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VISITING THE CATHEDRAL on the left, and then select VIRTUAL TOU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interactive floor plan to view the various areas. (Click on Open Floor Plan, select an area, then click on Close Floor Plan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SURE to view the area labeled MARTYDOM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 12 – Describe the Shrine of Thomas Becke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canterbury-cathedral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Forget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need to turn in your scavenger hunt and your travel journal to me once you have completed the trip.  This will be for a grade, so it is important to get it to 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We G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will complete a scavenger hunt as you travel.  This is to be turned in once you have finished your tri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tems you are to locate will be identified with SH and a number (SH 1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, as you travel, think about the places you visit.  Once you have finished the trip, you will write a journal entry describing ONE of the places you “saw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’s Get Started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ome to London, our first stop.  Before we begin our trip to Canterbury, let’s explore some of the places here in Lond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london.jpg"/>
          <p:cNvPicPr/>
          <p:nvPr/>
        </p:nvPicPr>
        <p:blipFill>
          <a:blip r:embed="rId1"/>
          <a:stretch/>
        </p:blipFill>
        <p:spPr>
          <a:xfrm>
            <a:off x="3333600" y="3870360"/>
            <a:ext cx="25066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ndon Attrac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don has quite a few attractions that you need to see while we’re here.  Take a few minutes to explore!  Click on the link below, and then click on </a:t>
            </a:r>
            <a:r>
              <a:rPr b="1" lang="en-US" sz="2400" spc="-1" strike="noStrike">
                <a:solidFill>
                  <a:srgbClr val="7878de"/>
                </a:solidFill>
                <a:latin typeface="Times New Roman"/>
              </a:rPr>
              <a:t>Start a Virtual Tou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(This is found under ATTRACTIONS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the left-hand side, select THREE attractions to vis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1 – Write 3 facts about each of the attractions you visi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viewoncities.com/london.ht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uses of Parlia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1919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lcome to the House of Parliament!  Also known as Westminster Palace, this is the meeting place of the House of Lords and the House of Commo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the Interactive map of Parliament.  Visit the following places and answer the question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 3 -- The Commons Chamber – What is Churchill’s Lucky Foot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 4 – The Lord’s Chamber – What are the Brass Gates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 5 – St. Stephen’s Hall &amp; Chapel Cloister – For whom is the chapel reserved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http://www.parliament.uk/visiting/online-tou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stminster Abbe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next stop will be Westminster Abbey, the final resting place of Geoffrey Chaucer.  As you spend time looking around, pay attention to the beautiful architec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6 – How many monarchs are buried at Westminster Abbe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7 – Under the EVENTS tab, select 2014 Bell Ringing Days.  What event will take place on April 21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westminster-abbey.org/our-hi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rrod’s Department Sto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rip is complete if you don’t do a little shopping.  Let’s visit Harrod’s Department Store.  Find an article of clothing that you like, and then convert to price from pounds to dollars using the currency conver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8 – What item did you “buy”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9 – How many Euros did it co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10 – What was the conversion to US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harrods.com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xe.com/ucc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se and Shin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e begin our journey to Canterbury, we will be traveling southeast from Southwark, a borough of London.  (A borough is similar to a suburb in the US.)  The link below will take you to a map of the cities and town the pilgrims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anterbury Ta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ould have traveled though.  Stop in each one and see what Chaucer’s pilgrims might have seen.  Click on the links to visit the various castles and cathedr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faculty.arts.ubc.ca/sechard/346map.htm#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lcome to Canterbury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wethereyet?Arewethereyet?Arewethereyet?Arewe….YES! After a long, tiring trip, we have reached our destination, unlike Chaucer’s pilgrims.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Before we visit Canterbury Cathedral, let’s acquaint ourselves with some of the places here in the city.  Get a good night’s sleep because we will have a busy day tomorrow at Canterbury Cathedr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 “Canterbury – A Tourist’s Guide” for a tongue-in-cheek look at some “tourists” who have visited Canterbury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 11 – List 3 notable “tourists” from the guid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hillside.co.uk/tour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coles</cp:lastModifiedBy>
  <dcterms:modified xsi:type="dcterms:W3CDTF">2014-02-21T19:36:15Z</dcterms:modified>
  <cp:revision>20</cp:revision>
  <dc:subject/>
  <dc:title>London to Canterb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71033</vt:lpwstr>
  </property>
</Properties>
</file>